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C839-CE85-480E-8D9D-3958F7A8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7760" y="3964320"/>
            <a:ext cx="563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C623-184D-492A-8C98-3E1B0EB9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75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937120" y="1600200"/>
            <a:ext cx="275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7760" y="3964320"/>
            <a:ext cx="275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937120" y="3964320"/>
            <a:ext cx="275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B459-2ABA-452E-A4BA-ECEE85EB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18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54320" y="1600200"/>
            <a:ext cx="18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60880" y="1600200"/>
            <a:ext cx="18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7760" y="3964320"/>
            <a:ext cx="18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954320" y="3964320"/>
            <a:ext cx="18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860880" y="3964320"/>
            <a:ext cx="18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7310-692D-47C2-974D-A15EB8CA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B1DD-6389-4086-8D03-144AAE14E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2486-CD0E-4690-B1A8-0A8E93B2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2F66-2FEF-4BDB-BCD9-EF7BE41F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75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937120" y="1600200"/>
            <a:ext cx="275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0155-01AA-40CE-893A-019E6822C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0D03-9683-4389-9547-4432EB53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D36C-5F14-4F63-A435-78CA8E09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75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7120" y="1600200"/>
            <a:ext cx="275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7760" y="3964320"/>
            <a:ext cx="275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7D795-FFD0-4D54-8F64-079C4724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551D-BD8D-4864-B943-0F5853BF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75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7120" y="1600200"/>
            <a:ext cx="275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37120" y="3964320"/>
            <a:ext cx="275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6DFA2-9E15-4782-9572-0B54C4CC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75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37120" y="1600200"/>
            <a:ext cx="275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7760" y="3964320"/>
            <a:ext cx="563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D5E7A-4D03-42C1-9729-D08687048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7760" y="3964320"/>
            <a:ext cx="563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EC9C-CEEB-42C4-AC2E-33D1116F0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75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937120" y="1600200"/>
            <a:ext cx="275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7760" y="3964320"/>
            <a:ext cx="275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937120" y="3964320"/>
            <a:ext cx="275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0FFE-8DDA-4D92-AB4D-FCB538056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18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54320" y="1600200"/>
            <a:ext cx="18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60880" y="1600200"/>
            <a:ext cx="18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7760" y="3964320"/>
            <a:ext cx="18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954320" y="3964320"/>
            <a:ext cx="18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860880" y="3964320"/>
            <a:ext cx="1815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F1FE7-97E6-4744-8187-F6D79ECF9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6EEF-5A67-4038-91BB-55C1D324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75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937120" y="1600200"/>
            <a:ext cx="275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707F-36CB-4318-984C-7A5334CC7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993F-0059-4C42-B82C-AC0E21EBB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DAF8-27B3-4A62-A902-DD52D3EC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75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937120" y="1600200"/>
            <a:ext cx="275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7760" y="3964320"/>
            <a:ext cx="275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CEF1-250F-45DA-9341-16594DB5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75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937120" y="1600200"/>
            <a:ext cx="275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937120" y="3964320"/>
            <a:ext cx="275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006F-555E-4D7B-B5E2-06CDFC36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275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937120" y="1600200"/>
            <a:ext cx="2751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7760" y="3964320"/>
            <a:ext cx="5638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7FCD-AFC9-4571-AB61-1DCD81B3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B7C1-B6A7-4593-A355-2B505D2D96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Object 7"/>
          <p:cNvGraphicFramePr/>
          <p:nvPr/>
        </p:nvGraphicFramePr>
        <p:xfrm>
          <a:off x="457200" y="1676520"/>
          <a:ext cx="2193840" cy="46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76520"/>
                    <a:ext cx="2193840" cy="46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Line 8"/>
          <p:cNvSpPr/>
          <p:nvPr/>
        </p:nvSpPr>
        <p:spPr>
          <a:xfrm>
            <a:off x="457200" y="1371600"/>
            <a:ext cx="82296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13"/>
          <p:cNvSpPr txBox="1"/>
          <p:nvPr/>
        </p:nvSpPr>
        <p:spPr>
          <a:xfrm>
            <a:off x="685800" y="1295280"/>
            <a:ext cx="77724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Verdana"/>
              </a:rPr>
              <a:t>Hong Kong Dim Sim Kitche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c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5815F-082F-4425-977C-861A1FA7C1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4648320"/>
            <a:ext cx="8382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6 May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emy 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9"/>
          <p:cNvGraphicFramePr/>
          <p:nvPr/>
        </p:nvGraphicFramePr>
        <p:xfrm>
          <a:off x="6858000" y="4343400"/>
          <a:ext cx="1554120" cy="22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4343400"/>
                    <a:ext cx="1554120" cy="22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0000"/>
                </a:solidFill>
                <a:latin typeface="Arial"/>
              </a:rPr>
              <a:t>Meeting Agenda</a:t>
            </a:r>
            <a:endParaRPr b="0" lang="en-US" sz="4400" spc="-1" strike="noStrike">
              <a:solidFill>
                <a:srgbClr val="e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to Hong Kong Dim Sim Kitc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choose our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c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c0000"/>
                </a:solidFill>
                <a:latin typeface="Arial"/>
              </a:rPr>
              <a:t>Introduction to Hong Kong </a:t>
            </a:r>
            <a:br>
              <a:rPr sz="4000"/>
            </a:br>
            <a:r>
              <a:rPr b="0" lang="en-US" sz="4000" spc="-1" strike="noStrike">
                <a:solidFill>
                  <a:srgbClr val="ec0000"/>
                </a:solidFill>
                <a:latin typeface="Arial"/>
              </a:rPr>
              <a:t>Dim Sim Kitchen</a:t>
            </a:r>
            <a:endParaRPr b="0" lang="en-US" sz="4000" spc="-1" strike="noStrike">
              <a:solidFill>
                <a:srgbClr val="e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d company operating since 198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Australian manufactured and 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ustralian meat and produce are used in our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differentiate by providing high quality, genuine and authentic asian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y compliant with HACCP Hazard Standards and NSW Food Reg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0000"/>
                </a:solidFill>
                <a:latin typeface="Arial"/>
              </a:rPr>
              <a:t>Distribution</a:t>
            </a:r>
            <a:endParaRPr b="0" lang="en-US" sz="4400" spc="-1" strike="noStrike">
              <a:solidFill>
                <a:srgbClr val="ec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of our dis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uxico, Garboro Australia, Hong Austr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current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els, casinos, clubs &amp; restaurants across Austr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asian super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0000"/>
                </a:solidFill>
                <a:latin typeface="Arial"/>
              </a:rPr>
              <a:t>Our products</a:t>
            </a:r>
            <a:endParaRPr b="0" lang="en-US" sz="4400" spc="-1" strike="noStrike">
              <a:solidFill>
                <a:srgbClr val="e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BQ Pork B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 S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hk"/>
          <p:cNvPicPr/>
          <p:nvPr/>
        </p:nvPicPr>
        <p:blipFill>
          <a:blip r:embed="rId1"/>
          <a:stretch/>
        </p:blipFill>
        <p:spPr>
          <a:xfrm>
            <a:off x="3417840" y="5029200"/>
            <a:ext cx="2525760" cy="1679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hk2"/>
          <p:cNvPicPr/>
          <p:nvPr/>
        </p:nvPicPr>
        <p:blipFill>
          <a:blip r:embed="rId2"/>
          <a:stretch/>
        </p:blipFill>
        <p:spPr>
          <a:xfrm>
            <a:off x="6095880" y="4648320"/>
            <a:ext cx="252576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0000"/>
                </a:solidFill>
                <a:latin typeface="Arial"/>
              </a:rPr>
              <a:t>Why Choose our Products</a:t>
            </a:r>
            <a:endParaRPr b="0" lang="en-US" sz="4400" spc="-1" strike="noStrike">
              <a:solidFill>
                <a:srgbClr val="e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7760" y="1600200"/>
            <a:ext cx="563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&amp; unique product 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offer our customers fresh, high quality products which is in line with Woolworths’ commitment to being ‘fresh food people’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assist in providing a more authentic asian product allowing Woolworths to recapture lost sales held by small chain asian grocery stor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s will value the authentic approach of our products, and the ease of prepa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shelf life of 1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c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ec0000"/>
              </a:solidFill>
              <a:latin typeface="Arial"/>
            </a:endParaRPr>
          </a:p>
        </p:txBody>
      </p:sp>
      <p:pic>
        <p:nvPicPr>
          <p:cNvPr id="102" name="Picture 4" descr="09052008270"/>
          <p:cNvPicPr/>
          <p:nvPr/>
        </p:nvPicPr>
        <p:blipFill>
          <a:blip r:embed="rId1"/>
          <a:srcRect l="0" t="18468" r="0" b="9709"/>
          <a:stretch/>
        </p:blipFill>
        <p:spPr>
          <a:xfrm>
            <a:off x="3429000" y="1752480"/>
            <a:ext cx="4950000" cy="2667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Pj04244360000[1]"/>
          <p:cNvPicPr/>
          <p:nvPr/>
        </p:nvPicPr>
        <p:blipFill>
          <a:blip r:embed="rId2"/>
          <a:stretch/>
        </p:blipFill>
        <p:spPr>
          <a:xfrm>
            <a:off x="3581280" y="3505320"/>
            <a:ext cx="2011320" cy="2514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0202prawnsiumai"/>
          <p:cNvPicPr/>
          <p:nvPr/>
        </p:nvPicPr>
        <p:blipFill>
          <a:blip r:embed="rId3"/>
          <a:stretch/>
        </p:blipFill>
        <p:spPr>
          <a:xfrm>
            <a:off x="5715000" y="4495680"/>
            <a:ext cx="25401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6T11:36:22Z</dcterms:created>
  <dc:creator>Jeremy</dc:creator>
  <dc:description/>
  <dc:language>en-US</dc:language>
  <cp:lastModifiedBy>Jeremy</cp:lastModifiedBy>
  <dcterms:modified xsi:type="dcterms:W3CDTF">2014-11-18T23:57:35Z</dcterms:modified>
  <cp:revision>10</cp:revision>
  <dc:subject/>
  <dc:title>Slide 1</dc:title>
</cp:coreProperties>
</file>